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C8B5-D1FA-4664-B971-49C5E02F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EB2D-874C-4A52-819B-C417A500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A31C-6165-4D05-B0A1-8E6F8C1E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362D-662A-4F6B-A438-0B734F3A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56FC-F9EB-40CA-8B73-3C30646D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14D3-E4D6-4049-AA64-097A9A89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EDD0-6E07-4E75-8FC8-DC3F892A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F563-155B-42AF-BD16-66063615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FFBA-5F4D-4B65-8543-05E741BD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5BCD-33A5-457A-8D77-8E3009E7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E14F-FFC3-4D26-A65E-C58AD21B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E2A-FD0B-444C-A9B7-E7A33099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A443-1677-472C-AA6E-531E619EAC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项目十二  手机发射故障的检修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676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手机开机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收到基站的载波信号后，然后向基站发射入网请求信号，建立手机与基站系统之间的信息交换。手机的发射电路一旦出现故障，就不能建立这种信息交换。手机显示“发射重拨”，长时间显示“拨号中……”等故障现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何判断手机是否有发射信号呢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只手拿起固定电话机的手柄，将其放在耳边，另一只手用手机拨打电话（如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12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号码），若在固定电话机的听筒里听不到干扰声，则说明手机无发射信号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54864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检测如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发射电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逻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音频电路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软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 摩托罗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V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手机有信号，发射有大电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952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处理方法：给手机加上直流稳压电源电压，拨打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12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发现整机发射电流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00—450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mA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手触摸功放，温度异常，怀疑功放损坏，如图所示为该手机功放集成块。可以看出，型号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EV58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与三星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18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手机的功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15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9P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很相似，易损坏，不耐高温，有些机型体现出的故障现象是发射关机。更换功放，故障即可消失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3852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图14-1  摩托罗拉V70发射大电流故障检测点" descr=""/>
          <p:cNvPicPr/>
          <p:nvPr/>
        </p:nvPicPr>
        <p:blipFill>
          <a:blip r:embed="rId1"/>
          <a:stretch/>
        </p:blipFill>
        <p:spPr>
          <a:xfrm>
            <a:off x="2057400" y="3657600"/>
            <a:ext cx="480060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 摩托罗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V7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手机拨打电话时，显示“通话失败”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67652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处理方法：给手机加上直流稳压电源电压，拨打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12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发现整机发射电流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m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左右变化，此故障是明显的发射电路故障，如图所示为该手机故障检测点。在检测射频电路供电和功放供电正常的情况下，先用观察法检查，发现发射信号传输通路上的元件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L3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R3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能虚焊，补焊后，故障排除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383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图14-2  摩托罗拉V70手机“通话失败”故障检测点" descr=""/>
          <p:cNvPicPr/>
          <p:nvPr/>
        </p:nvPicPr>
        <p:blipFill>
          <a:blip r:embed="rId1"/>
          <a:stretch/>
        </p:blipFill>
        <p:spPr>
          <a:xfrm>
            <a:off x="2295360" y="3809880"/>
            <a:ext cx="38005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3-05T06:36:51Z</dcterms:modified>
  <cp:revision>9</cp:revision>
  <dc:subject/>
  <dc:title>PowerPoint Presentation</dc:title>
</cp:coreProperties>
</file>